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55E9-7D44-4A34-A85B-F54ECA05A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8DE5-4FE0-47EB-ABFA-BB84E5AB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DC7D-6442-420D-BA51-A5A5BB39A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7870-D151-4369-9C07-3F80659D6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1F82-8FD6-40EA-B6AF-3393A1F2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0A32-6083-4DBC-AFFA-03839084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4482-2252-4E6E-AA99-0E62CC59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3855-69D1-4C97-A2C4-9F0E4F79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1825-52CE-47E2-A2FB-91BD8FC2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353C-0627-4760-AB68-A883B140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589E-2406-4EFF-B2E2-FF8EED43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EC9A-DC81-4F9A-A52D-B15641B0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DA27-3A5C-4235-B6C1-77D1AA212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 Narrow"/>
              </a:rPr>
              <a:t>Prayer of Adoration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We praise you, O Go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humility, you seek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mercy, you keep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humiliation, you glorify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1 of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generosit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 provide for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wisdom, you place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might, you shield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2 of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governanc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 make us ho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communion, you teach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love, you lift us u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Based on </a:t>
            </a:r>
            <a:r>
              <a:rPr b="0" i="1" lang="en-US" sz="2400" spc="-1" strike="noStrike">
                <a:solidFill>
                  <a:srgbClr val="bbe0e3"/>
                </a:solidFill>
                <a:latin typeface="Arial"/>
              </a:rPr>
              <a:t>T</a:t>
            </a:r>
            <a:r>
              <a:rPr b="0" i="1" lang="en-US" sz="2400" spc="-1" strike="noStrike">
                <a:solidFill>
                  <a:srgbClr val="bbe0e3"/>
                </a:solidFill>
                <a:latin typeface="Arial"/>
              </a:rPr>
              <a:t>he Nine Choirs: How They Sing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by Mechtild of Magdeburg (1210-128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3 of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24:36Z</dcterms:created>
  <dc:creator>Anon Anon</dc:creator>
  <dc:description/>
  <dc:language>en-US</dc:language>
  <cp:lastModifiedBy>Anon Anon</cp:lastModifiedBy>
  <dcterms:modified xsi:type="dcterms:W3CDTF">2005-08-09T05:45:24Z</dcterms:modified>
  <cp:revision>8</cp:revision>
  <dc:subject/>
  <dc:title>PowerPoint Presentation</dc:title>
</cp:coreProperties>
</file>